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3726-8245-41A3-8643-B53B878C8A27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384A-D795-43F1-8B6C-B16D6C54F20E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1" name="Rectángulo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2" name="Rectángulo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Rectángulo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4" name="Rectángulo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282-FA83-4EB3-9D34-7418A9D8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89D-9F10-41A7-BAF6-953EAC72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C5978-B51D-4279-B47A-ADBCC53E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2FF84-DA70-4E10-902B-F127ACA6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3F919-4E9E-4BCE-A424-14BEDB46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A955D-9D00-455F-B574-229B5E58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9A829-8C4A-401C-A485-9AEC3988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8CA98-8C2C-4269-B6F7-3F10BD36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1015E-7868-472B-BFF8-B5F7B240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7C617-F1CE-4313-8044-5FA3F4EB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9DCA6-7904-46C5-97BF-EA0CC619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7B4B6-32D7-44BD-A849-55F442C8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9C9-476D-44BB-BF63-2CC39AAA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16C41-BE1A-4DF2-B136-A3D86314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A33A7-8AF2-4FA5-9676-92A3010B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ED127-176F-40B6-85EF-8ED11325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766FC-9CA6-404C-8CEF-69C92934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2E68D-2334-47E1-AB85-DB5D48E7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3FD89-77B0-4A4F-89AA-85632A65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9DEB2-B195-4B2E-BBFB-D1CB76FA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5F113-4871-4197-89FC-9A416A46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B6BFE-62DC-4D62-B47E-35C7A54E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1CC4E-C261-45D3-AE7C-D5D5385B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20B-312C-41B4-B8FF-E057C6F2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D213E-2B76-481F-9906-4C64B9E0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3498-A484-4B45-A714-B24A057C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6F4F-DE8E-49CF-AFA4-3C7B4B10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BCEA-0864-4BCA-A007-FA1B9A5E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AD88-780B-43D1-BBC7-D86ACB2D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10DA-D17E-43FC-BFA7-AAC98D1C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C1D6-A96E-4C71-BF60-A9C7715D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EDF6-281C-4074-9455-91DCA4FA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33A-3E58-49D4-89A2-5BE750C1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1F05-B840-46F1-88E3-FED923AA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FB78-5C37-4419-ADCB-A4050C89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C4AC-2704-4E92-B2CD-9DF77889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8DC9-12E9-44C8-A124-7187485A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AF45-E8CD-4386-A69C-6E49BC0D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8D0F5-A13B-4829-B495-CEB2B110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2C22D-715E-4981-A97D-CA121AA2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33F39-6FD6-41A7-AF69-17E4B661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B07C3-C1E8-46E7-A305-ED826BE6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473FD-1CCC-47F9-BF60-F223CB45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9E1D-3E3F-40ED-9B98-DABE82CC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5855C-DE41-45EA-B02D-E7B69FE1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E5E4-0420-49BB-A1AC-DEED5F9D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A4604-99CD-4381-822E-36C29EAA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F3F09-D3C4-4C68-8399-335022D1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93483-F02E-4A06-A214-0ED31981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CB619-0EFE-4871-9DD7-17E0C2C5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35FBF-2ECC-41B5-9EA9-AB16CA59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981B5-4DD2-4A2B-B723-4D490F01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B8984-20F2-4B13-9D2C-AB011AA8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5A5DD-6D6A-460C-BF63-052ED9AF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1D8C-15E7-4455-B9FD-B697D530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50349-1D6A-4718-BBC7-D0F11786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BF3A0-7581-4675-B3DB-37C75621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B5BD3-E3A0-43C7-93D8-83111FA2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3E697-FDB5-4B95-9EC1-EB3B3C10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2E01B-CB15-428F-BF14-7AF1E77E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9211A-3C2B-4C37-8D1D-20ADDDFB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2FD19-46AF-4F3B-B955-34DC800E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0F697-24FF-47BE-8591-419A70A3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54357-D6B2-44B0-91CB-21326176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C3B93-6315-419D-9996-6F1726DC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482-F3F2-4555-8592-2679D808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24124-9B4F-47EC-8952-0D7D094E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EA056-EA5D-4C10-95C2-00CB7649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B876A-3088-4622-8A7B-38DB7334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28A35-3BFF-451A-B8F0-EFC0D390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CB359-984F-43BC-A138-1D86DFAE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7E2A5-8990-4C08-ABD3-028FE2B5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9B1E7-3029-4A61-B424-B6736946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6E76E-AFFE-447A-8BEF-A3DA4A43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990AA-D66D-4AC9-84B0-19EDA022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ECB3E-34C3-453F-8E57-9CDA824D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6FA-EF7D-426D-8E10-A0349294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3F0AB-AF49-44A1-BB31-8D7DC339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9D026-BBC3-4AC1-B702-EB20C587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0FC36-9C12-4C5E-BB2C-E734EDD5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7A5E0-80AC-4EDA-B91D-87AFFD39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D3D8F-3ABC-4756-8782-A57610DF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BEA04-41D3-4C15-9225-D2A4E37E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19A46-2105-450F-9F13-6C0C7BBE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0CD71-39A0-4AFE-8825-21313582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C0E9D-C0ED-4138-9957-759F9953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D007E-EE43-4A58-A1A7-EC7246E0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9B62-DF17-499A-96BE-DC356E48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59A04-6E6F-4089-A397-2F1B650F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F5595-430C-4240-9C74-5C85CACC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0A2DE-0F58-4111-9F64-ACF6B0AB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5B5EB-70B3-4EE8-832E-CDD7C9D0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CA797-C41B-441B-9921-67683603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ED68F-2B25-4E1F-BA2F-82CADE29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B2B4F-B80E-4CC0-92DB-53DA4F97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78BE3-2281-4A92-BC52-6032071E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7227F-565F-4A4D-A87F-C8CFA481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27C19-5B2B-4D83-8FF4-5821662A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DD3B-87EE-4B70-8511-CD604D0F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397A9-65FA-435E-8C19-F49B5864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8C086-9E71-4EBF-A8B2-2D2AE535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51BDE-8499-4DF9-9B75-32A29806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8F27E-3D02-4D60-AD0A-CFBC5EEE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3B031-A9C3-4D61-AEE5-91B2E3EC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74808-CA6E-4E33-AAE7-08A1C176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D64AF-94FF-421C-B0FC-43A84A5D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8C481-BE87-427F-933E-3A120FE8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6D3E0-CC81-4C9D-B728-5475249E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43F2C-F72D-4C72-9C3C-D1A2A62A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D99-FCDC-4FB6-97C9-E940ADFC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33C4A-6DD4-4CFD-AEDE-7D27A8FA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E3FB5-E323-4963-91B9-C0741CBB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692E1-40B0-425F-8BAC-DB0B0799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DF63F-6F14-4743-B2A6-8828EA6B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70D74-E811-40B1-9430-BA7AF1BB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24D29-97A0-48DE-BBAE-7B89E305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6D925-8419-4BC1-B9C2-CD972996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C7663-2A8A-42F8-933E-658B98CF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65407-28D0-4D15-BDDC-AF53FD61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F0204-7A84-468C-9627-3573096B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7EAC-2599-4C18-AF8D-20BFC0F314C6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47FD-D598-4DFD-9202-CAA77C66A38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3D38-ABFB-4547-8EEE-4FD6F644D5DC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7B6C-67CB-426E-B078-2C057455BC8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F205-697B-4B30-9FCA-9F706082C8DD}" type="slidenum">
              <a:rPr b="0" lang="es-A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33B3-B4F2-49A5-AFCA-126E3510CFF0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12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14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8F54-D9FB-4420-A3A5-38070B180C50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5389-D5E6-4102-B465-7C61B66342A3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61FF-F834-4C7F-85AB-E6C020D36218}" type="slidenum">
              <a:rPr b="0" lang="es-AR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38C7-E6BD-41B2-A809-FDFCF77A4F30}" type="slidenum">
              <a:rPr b="0" lang="es-AR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9eb"/>
            </a:gs>
            <a:gs pos="100000">
              <a:srgbClr val="5f6c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4754b"/>
              </a:gs>
              <a:gs pos="50000">
                <a:srgbClr val="fbfda1"/>
              </a:gs>
              <a:gs pos="100000">
                <a:srgbClr val="7475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OLILL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fe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ZIMAS DE OXIDO REDUCCION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a oxidación en los sistemas biológicos.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Oxidorreduct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AD Deshidrogen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Proteínas ferrosulfuradas. Coenzima Q, Citocromo,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Citocromo 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NSPORTE ELECTRONICO- FOSFORILACIO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XIDATIV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adena Respiratoria. Complejos. Inhibidores y desacoplantes. Síntesis de ATP. Control Respir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ormación de productos de reducción parcial del oxígeno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canismos de defensa contra las especies reactivas al oxíg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TROS SISTEMAS DE TRANSPOR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istema Microsomal. Oxigenasas. Catal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TABOLISMO DE XENOBIOT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Fase I y I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179280" y="219240"/>
            <a:ext cx="87138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84072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1 Rectángulo"/>
          <p:cNvSpPr/>
          <p:nvPr/>
        </p:nvSpPr>
        <p:spPr>
          <a:xfrm>
            <a:off x="684360" y="6206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5698"/>
                </a:solidFill>
                <a:latin typeface="Century Gothic"/>
              </a:rPr>
              <a:t>FORMACION DE PRODUCTOS DE REDUCCION PARCIAL DEL OXIGEN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6" name="2 CuadroTexto"/>
          <p:cNvSpPr/>
          <p:nvPr/>
        </p:nvSpPr>
        <p:spPr>
          <a:xfrm>
            <a:off x="324000" y="1773360"/>
            <a:ext cx="8569080" cy="45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La etapa final de la CR es la reduccion de una molécula de O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Century Gothic"/>
              </a:rPr>
              <a:t>2 </a:t>
            </a: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por la cesión de 4 electron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El problema de la convergencia simultanea de los 4 e- a este punto terminal es muy importante </a:t>
            </a:r>
            <a:r>
              <a:rPr b="1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Si la reduccion del oxigeno no es completa, se forman productos tóxico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Estos productos se llaman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5698"/>
                </a:solidFill>
                <a:latin typeface="Century Gothic"/>
              </a:rPr>
              <a:t>ESPECIES REACTIVAS DEL OXIGENO: EAO, ROS, AO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705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1 CuadroTexto"/>
          <p:cNvSpPr/>
          <p:nvPr/>
        </p:nvSpPr>
        <p:spPr>
          <a:xfrm>
            <a:off x="395280" y="333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FORMACION DE PRODUCTOS DE REDUCCION PARCIAL DEL OXIGEN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247240" cy="54007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"/>
          <p:cNvPicPr/>
          <p:nvPr/>
        </p:nvPicPr>
        <p:blipFill>
          <a:blip r:embed="rId2"/>
          <a:stretch/>
        </p:blipFill>
        <p:spPr>
          <a:xfrm>
            <a:off x="372960" y="472608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bfd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ESPECIES REACTIVAS DEL OXIGEN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Rectángulo 5"/>
          <p:cNvSpPr/>
          <p:nvPr/>
        </p:nvSpPr>
        <p:spPr>
          <a:xfrm>
            <a:off x="457200" y="2104920"/>
            <a:ext cx="403848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O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spcBef>
                <a:spcPts val="901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O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s-ES_tradnl" sz="3600" spc="-1" strike="noStrike" baseline="30000">
                <a:solidFill>
                  <a:srgbClr val="ffffff"/>
                </a:solidFill>
                <a:latin typeface="Century Gothic"/>
                <a:ea typeface="Arial"/>
              </a:rPr>
              <a:t>.-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H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O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spcBef>
                <a:spcPts val="901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OH</a:t>
            </a:r>
            <a:r>
              <a:rPr b="1" lang="es-ES_tradnl" sz="3600" spc="-1" strike="noStrike" baseline="30000">
                <a:solidFill>
                  <a:srgbClr val="ffffff"/>
                </a:solidFill>
                <a:latin typeface="Century Gothic"/>
                <a:ea typeface="Arial"/>
              </a:rPr>
              <a:t>.-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Rectángulo 6"/>
          <p:cNvSpPr/>
          <p:nvPr/>
        </p:nvSpPr>
        <p:spPr>
          <a:xfrm>
            <a:off x="4067280" y="2104920"/>
            <a:ext cx="46195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Oxígeno Molecula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Radical Superóxid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Peróxido de Hidrógen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Radical Hidroxil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30592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801684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3 Rectángulo"/>
          <p:cNvSpPr/>
          <p:nvPr/>
        </p:nvSpPr>
        <p:spPr>
          <a:xfrm>
            <a:off x="1392120" y="262080"/>
            <a:ext cx="691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ugar de translocación de proton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500040" y="954000"/>
            <a:ext cx="8143920" cy="58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>
            <a:off x="755640" y="495360"/>
            <a:ext cx="79455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upo 4"/>
          <p:cNvGrpSpPr/>
          <p:nvPr/>
        </p:nvGrpSpPr>
        <p:grpSpPr>
          <a:xfrm>
            <a:off x="2987640" y="2205000"/>
            <a:ext cx="5904000" cy="657360"/>
            <a:chOff x="2987640" y="2205000"/>
            <a:chExt cx="5904000" cy="657360"/>
          </a:xfrm>
        </p:grpSpPr>
        <p:sp>
          <p:nvSpPr>
            <p:cNvPr id="472" name="Rectángulo 5"/>
            <p:cNvSpPr/>
            <p:nvPr/>
          </p:nvSpPr>
          <p:spPr>
            <a:xfrm>
              <a:off x="2987640" y="2205000"/>
              <a:ext cx="5904000" cy="65736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2   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2</a:t>
              </a:r>
              <a:r>
                <a:rPr b="1" lang="es-ES_tradnl" sz="3600" spc="-1" strike="noStrike" baseline="30000">
                  <a:solidFill>
                    <a:srgbClr val="000000"/>
                  </a:solidFill>
                  <a:latin typeface="Century Gothic"/>
                  <a:ea typeface="Arial"/>
                </a:rPr>
                <a:t>.-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+ 2 H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Century Gothic"/>
                  <a:ea typeface="Arial"/>
                </a:rPr>
                <a:t>+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	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               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 + 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2 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73" name="Línea 6"/>
            <p:cNvSpPr/>
            <p:nvPr/>
          </p:nvSpPr>
          <p:spPr>
            <a:xfrm>
              <a:off x="5148360" y="2421000"/>
              <a:ext cx="14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74" name="Rectángulo 7"/>
          <p:cNvSpPr/>
          <p:nvPr/>
        </p:nvSpPr>
        <p:spPr>
          <a:xfrm>
            <a:off x="673200" y="6461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Rectángulo 8"/>
          <p:cNvSpPr/>
          <p:nvPr/>
        </p:nvSpPr>
        <p:spPr>
          <a:xfrm>
            <a:off x="674640" y="492120"/>
            <a:ext cx="8226360" cy="1139760"/>
          </a:xfrm>
          <a:prstGeom prst="rect">
            <a:avLst/>
          </a:prstGeom>
          <a:solidFill>
            <a:srgbClr val="fbfd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Enzimas antioxidante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Elipse 9"/>
          <p:cNvSpPr/>
          <p:nvPr/>
        </p:nvSpPr>
        <p:spPr>
          <a:xfrm>
            <a:off x="611280" y="3789360"/>
            <a:ext cx="1655640" cy="10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ATALAS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Elipse 10"/>
          <p:cNvSpPr/>
          <p:nvPr/>
        </p:nvSpPr>
        <p:spPr>
          <a:xfrm>
            <a:off x="539640" y="5229360"/>
            <a:ext cx="2016360" cy="1368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GLUTATIO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EROXIDAS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78" name="Grupo 11"/>
          <p:cNvGrpSpPr/>
          <p:nvPr/>
        </p:nvGrpSpPr>
        <p:grpSpPr>
          <a:xfrm>
            <a:off x="2771640" y="3932280"/>
            <a:ext cx="5399280" cy="505080"/>
            <a:chOff x="2771640" y="3932280"/>
            <a:chExt cx="5399280" cy="505080"/>
          </a:xfrm>
        </p:grpSpPr>
        <p:sp>
          <p:nvSpPr>
            <p:cNvPr id="479" name="Rectángulo 12"/>
            <p:cNvSpPr/>
            <p:nvPr/>
          </p:nvSpPr>
          <p:spPr>
            <a:xfrm>
              <a:off x="2771640" y="3932280"/>
              <a:ext cx="5399280" cy="50508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2 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2 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	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	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2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O + 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2 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80" name="Línea 13"/>
            <p:cNvSpPr/>
            <p:nvPr/>
          </p:nvSpPr>
          <p:spPr>
            <a:xfrm>
              <a:off x="4356000" y="414792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81" name="Grupo 14"/>
          <p:cNvGrpSpPr/>
          <p:nvPr/>
        </p:nvGrpSpPr>
        <p:grpSpPr>
          <a:xfrm>
            <a:off x="2843280" y="5661000"/>
            <a:ext cx="6262560" cy="573120"/>
            <a:chOff x="2843280" y="5661000"/>
            <a:chExt cx="6262560" cy="573120"/>
          </a:xfrm>
        </p:grpSpPr>
        <p:sp>
          <p:nvSpPr>
            <p:cNvPr id="482" name="Rectángulo 15"/>
            <p:cNvSpPr/>
            <p:nvPr/>
          </p:nvSpPr>
          <p:spPr>
            <a:xfrm>
              <a:off x="2843280" y="5661000"/>
              <a:ext cx="6262560" cy="57312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2 GSH +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 GSSG + 2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83" name="Línea 16"/>
            <p:cNvSpPr/>
            <p:nvPr/>
          </p:nvSpPr>
          <p:spPr>
            <a:xfrm>
              <a:off x="5146560" y="5948280"/>
              <a:ext cx="129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4" name="Elipse 17"/>
          <p:cNvSpPr/>
          <p:nvPr/>
        </p:nvSpPr>
        <p:spPr>
          <a:xfrm>
            <a:off x="466560" y="1844640"/>
            <a:ext cx="2376720" cy="158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UPEROXIDO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ISMUTAS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1 CuadroTexto"/>
          <p:cNvSpPr/>
          <p:nvPr/>
        </p:nvSpPr>
        <p:spPr>
          <a:xfrm>
            <a:off x="179280" y="115920"/>
            <a:ext cx="8352000" cy="65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5698"/>
                </a:solidFill>
                <a:latin typeface="Comic Sans MS"/>
              </a:rPr>
              <a:t>OTROS SISTEMAS DE TRANSPORTE DE ELECTRON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omic Sans MS"/>
              </a:rPr>
              <a:t>Existen sistemas de transporte distintos de la CR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omic Sans MS"/>
              </a:rPr>
              <a:t>Que no participan en la síntesis de ATP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omic Sans MS"/>
              </a:rPr>
              <a:t>Participan en reacciones de </a:t>
            </a:r>
            <a:r>
              <a:rPr b="1" lang="es-MX" sz="2800" spc="-1" strike="noStrike">
                <a:solidFill>
                  <a:srgbClr val="ff5698"/>
                </a:solidFill>
                <a:latin typeface="Comic Sans MS"/>
              </a:rPr>
              <a:t>hidroxilaciones y deshidrogenaciones del sustrato</a:t>
            </a:r>
            <a:r>
              <a:rPr b="1" lang="es-MX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omic Sans MS"/>
              </a:rPr>
              <a:t>Estos sistemas se encuentran en la </a:t>
            </a:r>
            <a:r>
              <a:rPr b="1" lang="es-MX" sz="2800" spc="-1" strike="noStrike">
                <a:solidFill>
                  <a:srgbClr val="ff5698"/>
                </a:solidFill>
                <a:latin typeface="Comic Sans MS"/>
              </a:rPr>
              <a:t>fracción</a:t>
            </a:r>
            <a:r>
              <a:rPr b="1" lang="es-MX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800" spc="-1" strike="noStrike">
                <a:solidFill>
                  <a:srgbClr val="ff5698"/>
                </a:solidFill>
                <a:latin typeface="Comic Sans MS"/>
              </a:rPr>
              <a:t>microsomal del retículo endoplásmico</a:t>
            </a:r>
            <a:r>
              <a:rPr b="1" lang="es-MX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omic Sans MS"/>
              </a:rPr>
              <a:t>Un 90% del O</a:t>
            </a:r>
            <a:r>
              <a:rPr b="1" lang="es-MX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s-MX" sz="2800" spc="-1" strike="noStrike">
                <a:solidFill>
                  <a:srgbClr val="ffffff"/>
                </a:solidFill>
                <a:latin typeface="Comic Sans MS"/>
              </a:rPr>
              <a:t> consumido por las células se emplea en la fosforilación oxidativa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bfda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OXIDASAS Y OXIGENASA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7" name="Rectángulo 5"/>
          <p:cNvSpPr/>
          <p:nvPr/>
        </p:nvSpPr>
        <p:spPr>
          <a:xfrm>
            <a:off x="528480" y="1501920"/>
            <a:ext cx="82296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Localización: Microsomas y peroxisoma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No asociados a la producción de ATP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Usan O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como sustrat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88" name="Grupo 6"/>
          <p:cNvGrpSpPr/>
          <p:nvPr/>
        </p:nvGrpSpPr>
        <p:grpSpPr>
          <a:xfrm>
            <a:off x="971640" y="3645000"/>
            <a:ext cx="2305080" cy="1972440"/>
            <a:chOff x="971640" y="3645000"/>
            <a:chExt cx="2305080" cy="1972440"/>
          </a:xfrm>
        </p:grpSpPr>
        <p:sp>
          <p:nvSpPr>
            <p:cNvPr id="489" name="Cuadro de texto 7"/>
            <p:cNvSpPr/>
            <p:nvPr/>
          </p:nvSpPr>
          <p:spPr>
            <a:xfrm>
              <a:off x="971640" y="3645000"/>
              <a:ext cx="2305080" cy="459720"/>
            </a:xfrm>
            <a:prstGeom prst="rect">
              <a:avLst/>
            </a:prstGeom>
            <a:solidFill>
              <a:srgbClr val="ff3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XIDASAS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0" name="Cuadro de texto 8"/>
            <p:cNvSpPr/>
            <p:nvPr/>
          </p:nvSpPr>
          <p:spPr>
            <a:xfrm>
              <a:off x="971640" y="5157720"/>
              <a:ext cx="2232000" cy="459720"/>
            </a:xfrm>
            <a:prstGeom prst="rect">
              <a:avLst/>
            </a:prstGeom>
            <a:solidFill>
              <a:srgbClr val="ff3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XIGENASAS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91" name="Grupo 9"/>
          <p:cNvGrpSpPr/>
          <p:nvPr/>
        </p:nvGrpSpPr>
        <p:grpSpPr>
          <a:xfrm>
            <a:off x="3492360" y="3500280"/>
            <a:ext cx="4392720" cy="654840"/>
            <a:chOff x="3492360" y="3500280"/>
            <a:chExt cx="4392720" cy="654840"/>
          </a:xfrm>
        </p:grpSpPr>
        <p:sp>
          <p:nvSpPr>
            <p:cNvPr id="492" name="Línea 10"/>
            <p:cNvSpPr/>
            <p:nvPr/>
          </p:nvSpPr>
          <p:spPr>
            <a:xfrm>
              <a:off x="3492360" y="3933720"/>
              <a:ext cx="1150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3" name="Cuadro de texto 11"/>
            <p:cNvSpPr/>
            <p:nvPr/>
          </p:nvSpPr>
          <p:spPr>
            <a:xfrm>
              <a:off x="5076720" y="3645000"/>
              <a:ext cx="2808360" cy="510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 incorporan O</a:t>
              </a:r>
              <a:r>
                <a:rPr b="1" lang="es-ES" sz="2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4" name="Cuadro de texto 12"/>
            <p:cNvSpPr/>
            <p:nvPr/>
          </p:nvSpPr>
          <p:spPr>
            <a:xfrm>
              <a:off x="3780000" y="350028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xid.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95" name="Grupo 13"/>
          <p:cNvGrpSpPr/>
          <p:nvPr/>
        </p:nvGrpSpPr>
        <p:grpSpPr>
          <a:xfrm>
            <a:off x="3348000" y="4653000"/>
            <a:ext cx="2809800" cy="1695960"/>
            <a:chOff x="3348000" y="4653000"/>
            <a:chExt cx="2809800" cy="1695960"/>
          </a:xfrm>
        </p:grpSpPr>
        <p:sp>
          <p:nvSpPr>
            <p:cNvPr id="496" name="Cuadro de texto 14"/>
            <p:cNvSpPr/>
            <p:nvPr/>
          </p:nvSpPr>
          <p:spPr>
            <a:xfrm>
              <a:off x="3492360" y="4653000"/>
              <a:ext cx="266544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OXIGENASAS</a:t>
              </a:r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7" name="Cuadro de texto 15"/>
            <p:cNvSpPr/>
            <p:nvPr/>
          </p:nvSpPr>
          <p:spPr>
            <a:xfrm>
              <a:off x="3419640" y="5950080"/>
              <a:ext cx="223200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OXIGENASAS</a:t>
              </a:r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8" name="Línea 16"/>
            <p:cNvSpPr/>
            <p:nvPr/>
          </p:nvSpPr>
          <p:spPr>
            <a:xfrm flipV="1">
              <a:off x="3348000" y="5157720"/>
              <a:ext cx="50328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9" name="Línea 17"/>
            <p:cNvSpPr/>
            <p:nvPr/>
          </p:nvSpPr>
          <p:spPr>
            <a:xfrm>
              <a:off x="3419640" y="5589720"/>
              <a:ext cx="28872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500" name="Grupo 18"/>
          <p:cNvGrpSpPr/>
          <p:nvPr/>
        </p:nvGrpSpPr>
        <p:grpSpPr>
          <a:xfrm>
            <a:off x="6156360" y="4437000"/>
            <a:ext cx="2665440" cy="875880"/>
            <a:chOff x="6156360" y="4437000"/>
            <a:chExt cx="2665440" cy="875880"/>
          </a:xfrm>
        </p:grpSpPr>
        <p:sp>
          <p:nvSpPr>
            <p:cNvPr id="501" name="Cuadro de texto 19"/>
            <p:cNvSpPr/>
            <p:nvPr/>
          </p:nvSpPr>
          <p:spPr>
            <a:xfrm>
              <a:off x="6516720" y="4437000"/>
              <a:ext cx="2305080" cy="875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corporan un átomo de O</a:t>
              </a:r>
              <a:r>
                <a:rPr b="1" lang="es-ES" sz="2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2" name="Línea 20"/>
            <p:cNvSpPr/>
            <p:nvPr/>
          </p:nvSpPr>
          <p:spPr>
            <a:xfrm>
              <a:off x="6156360" y="4869000"/>
              <a:ext cx="28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503" name="Grupo 21"/>
          <p:cNvGrpSpPr/>
          <p:nvPr/>
        </p:nvGrpSpPr>
        <p:grpSpPr>
          <a:xfrm>
            <a:off x="5724360" y="5661000"/>
            <a:ext cx="3097440" cy="875880"/>
            <a:chOff x="5724360" y="5661000"/>
            <a:chExt cx="3097440" cy="875880"/>
          </a:xfrm>
        </p:grpSpPr>
        <p:sp>
          <p:nvSpPr>
            <p:cNvPr id="504" name="Cuadro de texto 22"/>
            <p:cNvSpPr/>
            <p:nvPr/>
          </p:nvSpPr>
          <p:spPr>
            <a:xfrm>
              <a:off x="6156360" y="5661000"/>
              <a:ext cx="2665440" cy="875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corporan los 2 átomos del O</a:t>
              </a:r>
              <a:r>
                <a:rPr b="1" lang="es-ES" sz="2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5" name="Línea 23"/>
            <p:cNvSpPr/>
            <p:nvPr/>
          </p:nvSpPr>
          <p:spPr>
            <a:xfrm>
              <a:off x="5724360" y="609300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ángulo 2" descr=""/>
          <p:cNvPicPr/>
          <p:nvPr/>
        </p:nvPicPr>
        <p:blipFill>
          <a:blip r:embed="rId1"/>
          <a:stretch/>
        </p:blipFill>
        <p:spPr>
          <a:xfrm>
            <a:off x="304920" y="3286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entury Gothic"/>
              </a:rPr>
              <a:t>Oxidación peroxisómica de ácidos graso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entury Gothic"/>
              </a:rPr>
              <a:t>Citocromo  oxidas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8" name="Cuadro de texto 4"/>
          <p:cNvSpPr/>
          <p:nvPr/>
        </p:nvSpPr>
        <p:spPr>
          <a:xfrm>
            <a:off x="755640" y="3645000"/>
            <a:ext cx="7704000" cy="5101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lavoproteína: 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FAD   y    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Línea 5"/>
          <p:cNvSpPr/>
          <p:nvPr/>
        </p:nvSpPr>
        <p:spPr>
          <a:xfrm>
            <a:off x="4160880" y="38736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0" name="Línea 6"/>
          <p:cNvSpPr/>
          <p:nvPr/>
        </p:nvSpPr>
        <p:spPr>
          <a:xfrm>
            <a:off x="6732720" y="38736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Cuadro de texto 7"/>
          <p:cNvSpPr/>
          <p:nvPr/>
        </p:nvSpPr>
        <p:spPr>
          <a:xfrm>
            <a:off x="920880" y="5589720"/>
            <a:ext cx="7056360" cy="5101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Hemoproteína: 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+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y  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Línea 8"/>
          <p:cNvSpPr/>
          <p:nvPr/>
        </p:nvSpPr>
        <p:spPr>
          <a:xfrm>
            <a:off x="3983040" y="580248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Línea 9"/>
          <p:cNvSpPr/>
          <p:nvPr/>
        </p:nvSpPr>
        <p:spPr>
          <a:xfrm>
            <a:off x="6254640" y="58006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Rectángulo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382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541440" y="19159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</a:rPr>
              <a:t>AH  +  BH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</a:rPr>
              <a:t>  +  O=O         A-OH  +  B  +  H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6" name="Línea 4"/>
          <p:cNvSpPr/>
          <p:nvPr/>
        </p:nvSpPr>
        <p:spPr>
          <a:xfrm>
            <a:off x="4427640" y="2133720"/>
            <a:ext cx="576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Cuadro de texto 6"/>
          <p:cNvSpPr/>
          <p:nvPr/>
        </p:nvSpPr>
        <p:spPr>
          <a:xfrm>
            <a:off x="684360" y="3645000"/>
            <a:ext cx="7632720" cy="87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n O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e incorpora al sustrato y el otro O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forma agu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Línea 7"/>
          <p:cNvSpPr/>
          <p:nvPr/>
        </p:nvSpPr>
        <p:spPr>
          <a:xfrm flipH="1">
            <a:off x="973080" y="2349360"/>
            <a:ext cx="21600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Cuadro de texto 8"/>
          <p:cNvSpPr/>
          <p:nvPr/>
        </p:nvSpPr>
        <p:spPr>
          <a:xfrm>
            <a:off x="468360" y="2708280"/>
            <a:ext cx="13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ustrato principa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Línea 9"/>
          <p:cNvSpPr/>
          <p:nvPr/>
        </p:nvSpPr>
        <p:spPr>
          <a:xfrm>
            <a:off x="2413080" y="2421000"/>
            <a:ext cx="216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Cuadro de texto 10"/>
          <p:cNvSpPr/>
          <p:nvPr/>
        </p:nvSpPr>
        <p:spPr>
          <a:xfrm>
            <a:off x="2195640" y="2924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-Sustrat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Línea 11"/>
          <p:cNvSpPr/>
          <p:nvPr/>
        </p:nvSpPr>
        <p:spPr>
          <a:xfrm>
            <a:off x="3995640" y="314172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3" name="Cuadro de texto 12"/>
          <p:cNvSpPr/>
          <p:nvPr/>
        </p:nvSpPr>
        <p:spPr>
          <a:xfrm>
            <a:off x="5292720" y="2708280"/>
            <a:ext cx="3024360" cy="71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ADH, NADPH, FMN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, FAD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, B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24" name="Grupo 22"/>
          <p:cNvGrpSpPr/>
          <p:nvPr/>
        </p:nvGrpSpPr>
        <p:grpSpPr>
          <a:xfrm>
            <a:off x="755640" y="4437000"/>
            <a:ext cx="7777080" cy="1376280"/>
            <a:chOff x="755640" y="4437000"/>
            <a:chExt cx="7777080" cy="1376280"/>
          </a:xfrm>
        </p:grpSpPr>
        <p:sp>
          <p:nvSpPr>
            <p:cNvPr id="525" name="Cuadro de texto 13"/>
            <p:cNvSpPr/>
            <p:nvPr/>
          </p:nvSpPr>
          <p:spPr>
            <a:xfrm>
              <a:off x="755640" y="4869000"/>
              <a:ext cx="302436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ITOCROMO P-450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6" name="Línea 15"/>
            <p:cNvSpPr/>
            <p:nvPr/>
          </p:nvSpPr>
          <p:spPr>
            <a:xfrm flipV="1">
              <a:off x="3995640" y="4581000"/>
              <a:ext cx="647640" cy="2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7" name="Línea 16"/>
            <p:cNvSpPr/>
            <p:nvPr/>
          </p:nvSpPr>
          <p:spPr>
            <a:xfrm>
              <a:off x="4067280" y="508464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8" name="Línea 17"/>
            <p:cNvSpPr/>
            <p:nvPr/>
          </p:nvSpPr>
          <p:spPr>
            <a:xfrm>
              <a:off x="4067280" y="5373720"/>
              <a:ext cx="64908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9" name="Cuadro de texto 18"/>
            <p:cNvSpPr/>
            <p:nvPr/>
          </p:nvSpPr>
          <p:spPr>
            <a:xfrm>
              <a:off x="4859280" y="443700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droxilación de esteroides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30" name="Cuadro de texto 19"/>
            <p:cNvSpPr/>
            <p:nvPr/>
          </p:nvSpPr>
          <p:spPr>
            <a:xfrm>
              <a:off x="5003640" y="494172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droxilación de fármacos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31" name="Cuadro de texto 20"/>
            <p:cNvSpPr/>
            <p:nvPr/>
          </p:nvSpPr>
          <p:spPr>
            <a:xfrm>
              <a:off x="4932360" y="544500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droxilación de xenobióticos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2" name="Cuadro de texto 21"/>
          <p:cNvSpPr/>
          <p:nvPr/>
        </p:nvSpPr>
        <p:spPr>
          <a:xfrm>
            <a:off x="684360" y="6021360"/>
            <a:ext cx="2592360" cy="405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ITOCROMO 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3" name="Línea 23"/>
          <p:cNvSpPr/>
          <p:nvPr/>
        </p:nvSpPr>
        <p:spPr>
          <a:xfrm>
            <a:off x="3348000" y="6237360"/>
            <a:ext cx="115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4" name="Cuadro de texto 24"/>
          <p:cNvSpPr/>
          <p:nvPr/>
        </p:nvSpPr>
        <p:spPr>
          <a:xfrm>
            <a:off x="4572000" y="6021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esaturación de ácidos graso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Rectángulo 4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548000"/>
          </a:xfrm>
          <a:prstGeom prst="rect">
            <a:avLst/>
          </a:prstGeom>
          <a:ln w="0">
            <a:noFill/>
          </a:ln>
        </p:spPr>
      </p:pic>
      <p:sp>
        <p:nvSpPr>
          <p:cNvPr id="536" name="Cuadro de texto 26"/>
          <p:cNvSpPr/>
          <p:nvPr/>
        </p:nvSpPr>
        <p:spPr>
          <a:xfrm>
            <a:off x="1619280" y="306864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7" name="Cuadro de texto 37"/>
          <p:cNvSpPr/>
          <p:nvPr/>
        </p:nvSpPr>
        <p:spPr>
          <a:xfrm>
            <a:off x="1042920" y="458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  <a:ea typeface="Arial"/>
              </a:rPr>
              <a:t>NADP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8" name="Cuadro de texto 38"/>
          <p:cNvSpPr/>
          <p:nvPr/>
        </p:nvSpPr>
        <p:spPr>
          <a:xfrm>
            <a:off x="971640" y="544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  <a:ea typeface="Arial"/>
              </a:rPr>
              <a:t>NADP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9" name="Autoforma 28"/>
          <p:cNvSpPr/>
          <p:nvPr/>
        </p:nvSpPr>
        <p:spPr>
          <a:xfrm>
            <a:off x="3490920" y="1835280"/>
            <a:ext cx="834840" cy="404640"/>
          </a:xfrm>
          <a:custGeom>
            <a:avLst/>
            <a:gdLst>
              <a:gd name="textAreaLeft" fmla="*/ 140040 w 834840"/>
              <a:gd name="textAreaRight" fmla="*/ 566280 w 83484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3" hR="21600" stAng="10800000" swAng="-5400000"/>
                <a:lnTo>
                  <a:pt x="11025" y="21600"/>
                </a:lnTo>
                <a:arcTo wR="7253" hR="21600" stAng="5400000" swAng="-2611300"/>
                <a:lnTo>
                  <a:pt x="21185" y="7200"/>
                </a:lnTo>
                <a:lnTo>
                  <a:pt x="16391" y="0"/>
                </a:lnTo>
                <a:lnTo>
                  <a:pt x="10767" y="7200"/>
                </a:lnTo>
                <a:lnTo>
                  <a:pt x="14090" y="7200"/>
                </a:lnTo>
                <a:arcTo wR="7253" hR="21600" stAng="2788700" swAng="2301282"/>
                <a:lnTo>
                  <a:pt x="9139" y="20857"/>
                </a:lnTo>
                <a:arcTo wR="7253" hR="21600" stAng="5710018" swAng="5089982"/>
                <a:close/>
              </a:path>
              <a:path fill="darkenLess" w="21600" h="21600">
                <a:moveTo>
                  <a:pt x="0" y="0"/>
                </a:moveTo>
                <a:arcTo wR="7253" hR="21600" stAng="10800000" swAng="-5400000"/>
                <a:lnTo>
                  <a:pt x="11025" y="21600"/>
                </a:lnTo>
                <a:arcTo wR="7253" hR="21600" stAng="5400000" swAng="310018"/>
                <a:lnTo>
                  <a:pt x="9139" y="20857"/>
                </a:lnTo>
                <a:arcTo wR="7253" hR="21600" stAng="5710018" swAng="5089982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Línea 29"/>
          <p:cNvSpPr/>
          <p:nvPr/>
        </p:nvSpPr>
        <p:spPr>
          <a:xfrm>
            <a:off x="3132000" y="231156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Autoforma 30"/>
          <p:cNvSpPr/>
          <p:nvPr/>
        </p:nvSpPr>
        <p:spPr>
          <a:xfrm>
            <a:off x="3419640" y="2311560"/>
            <a:ext cx="939600" cy="507960"/>
          </a:xfrm>
          <a:custGeom>
            <a:avLst/>
            <a:gdLst>
              <a:gd name="textAreaLeft" fmla="*/ 171000 w 939600"/>
              <a:gd name="textAreaRight" fmla="*/ 648720 w 939600"/>
              <a:gd name="textAreaTop" fmla="*/ 68040 h 507960"/>
              <a:gd name="textAreaBottom" fmla="*/ 4399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60" hR="21600" stAng="10800000" swAng="5400000"/>
                <a:lnTo>
                  <a:pt x="10980" y="0"/>
                </a:lnTo>
                <a:arcTo wR="7860" hR="21600" stAng="-5400000" swAng="2749521"/>
                <a:lnTo>
                  <a:pt x="21150" y="14400"/>
                </a:lnTo>
                <a:lnTo>
                  <a:pt x="17280" y="21600"/>
                </a:lnTo>
                <a:lnTo>
                  <a:pt x="12510" y="14400"/>
                </a:lnTo>
                <a:lnTo>
                  <a:pt x="15270" y="14400"/>
                </a:lnTo>
                <a:arcTo wR="7860" hR="21600" stAng="-2650479" swAng="-2496657"/>
                <a:lnTo>
                  <a:pt x="9420" y="430"/>
                </a:lnTo>
                <a:arcTo wR="7860" hR="21600" stAng="-5652864" swAng="-5147136"/>
                <a:close/>
              </a:path>
              <a:path fill="darkenLess" w="21600" h="21600">
                <a:moveTo>
                  <a:pt x="0" y="21600"/>
                </a:moveTo>
                <a:arcTo wR="7860" hR="21600" stAng="10800000" swAng="5400000"/>
                <a:lnTo>
                  <a:pt x="7860" y="0"/>
                </a:lnTo>
                <a:arcTo wR="7860" hR="21600" stAng="-5400000" swAng="252864"/>
                <a:lnTo>
                  <a:pt x="9420" y="430"/>
                </a:lnTo>
                <a:arcTo wR="7860" hR="21600" stAng="-5652864" swAng="-5147136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Cuadro de texto 31"/>
          <p:cNvSpPr/>
          <p:nvPr/>
        </p:nvSpPr>
        <p:spPr>
          <a:xfrm>
            <a:off x="4211640" y="2744640"/>
            <a:ext cx="24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c540a"/>
                </a:solidFill>
                <a:latin typeface="Arial"/>
                <a:ea typeface="Arial"/>
              </a:rPr>
              <a:t>CytP450 (oxid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3" name="Cuadro de texto 32"/>
          <p:cNvSpPr/>
          <p:nvPr/>
        </p:nvSpPr>
        <p:spPr>
          <a:xfrm>
            <a:off x="1550520" y="27622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c540a"/>
                </a:solidFill>
                <a:latin typeface="Arial"/>
                <a:ea typeface="Arial"/>
              </a:rPr>
              <a:t>CytP450 (red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Cuadro de texto 33"/>
          <p:cNvSpPr/>
          <p:nvPr/>
        </p:nvSpPr>
        <p:spPr>
          <a:xfrm>
            <a:off x="1261080" y="2023920"/>
            <a:ext cx="1416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ustrat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Cuadro de texto 34"/>
          <p:cNvSpPr/>
          <p:nvPr/>
        </p:nvSpPr>
        <p:spPr>
          <a:xfrm>
            <a:off x="4859280" y="2095560"/>
            <a:ext cx="31449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ustrato hidroxilad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Cuadro de texto 35"/>
          <p:cNvSpPr/>
          <p:nvPr/>
        </p:nvSpPr>
        <p:spPr>
          <a:xfrm>
            <a:off x="2843280" y="1484280"/>
            <a:ext cx="6271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42b0a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Arial"/>
                <a:ea typeface="Arial"/>
              </a:rPr>
              <a:t>2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7" name="Cuadro de texto 36"/>
          <p:cNvSpPr/>
          <p:nvPr/>
        </p:nvSpPr>
        <p:spPr>
          <a:xfrm>
            <a:off x="4157280" y="1484280"/>
            <a:ext cx="83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42b0a"/>
                </a:solidFill>
                <a:latin typeface="Arial"/>
                <a:ea typeface="Arial"/>
              </a:rPr>
              <a:t>H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8" name="Elipse 43"/>
          <p:cNvSpPr/>
          <p:nvPr/>
        </p:nvSpPr>
        <p:spPr>
          <a:xfrm>
            <a:off x="2771640" y="4724280"/>
            <a:ext cx="1944720" cy="15130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itocromo P-450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Reductas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(Fe-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Elipse 45"/>
          <p:cNvSpPr/>
          <p:nvPr/>
        </p:nvSpPr>
        <p:spPr>
          <a:xfrm>
            <a:off x="4859280" y="4791240"/>
            <a:ext cx="1944720" cy="15127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itocromo P-450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reducido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Cuadro de texto 46"/>
          <p:cNvSpPr/>
          <p:nvPr/>
        </p:nvSpPr>
        <p:spPr>
          <a:xfrm>
            <a:off x="7236000" y="4437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0059"/>
                </a:solidFill>
                <a:latin typeface="Arial"/>
                <a:ea typeface="Arial"/>
              </a:rPr>
              <a:t>R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1" name="Cuadro de texto 47"/>
          <p:cNvSpPr/>
          <p:nvPr/>
        </p:nvSpPr>
        <p:spPr>
          <a:xfrm>
            <a:off x="7308720" y="6165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0059"/>
                </a:solidFill>
                <a:latin typeface="Arial"/>
                <a:ea typeface="Arial"/>
              </a:rPr>
              <a:t>R</a:t>
            </a:r>
            <a:r>
              <a:rPr b="1" lang="es-ES" sz="2000" spc="-1" strike="noStrike">
                <a:solidFill>
                  <a:srgbClr val="f42b0a"/>
                </a:solidFill>
                <a:latin typeface="Arial"/>
                <a:ea typeface="Arial"/>
              </a:rPr>
              <a:t>O</a:t>
            </a:r>
            <a:r>
              <a:rPr b="1" lang="es-ES" sz="2000" spc="-1" strike="noStrike">
                <a:solidFill>
                  <a:srgbClr val="e40059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2" name="Cuadro de texto 48"/>
          <p:cNvSpPr/>
          <p:nvPr/>
        </p:nvSpPr>
        <p:spPr>
          <a:xfrm>
            <a:off x="7162920" y="5157720"/>
            <a:ext cx="71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42b0a"/>
                </a:solidFill>
                <a:latin typeface="Arial"/>
                <a:ea typeface="Arial"/>
              </a:rPr>
              <a:t>O</a:t>
            </a:r>
            <a:r>
              <a:rPr b="1" lang="es-ES" sz="2000" spc="-1" strike="noStrike" baseline="-25000">
                <a:solidFill>
                  <a:srgbClr val="f42b0a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Cuadro de texto 49"/>
          <p:cNvSpPr/>
          <p:nvPr/>
        </p:nvSpPr>
        <p:spPr>
          <a:xfrm>
            <a:off x="7236000" y="559116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s-ES" sz="2000" spc="-1" strike="noStrike">
                <a:solidFill>
                  <a:srgbClr val="f42b0a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4" name="Cuadro de texto 39"/>
          <p:cNvSpPr/>
          <p:nvPr/>
        </p:nvSpPr>
        <p:spPr>
          <a:xfrm>
            <a:off x="3132000" y="4653000"/>
            <a:ext cx="122400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xidad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5" name="Cuadro de texto 40"/>
          <p:cNvSpPr/>
          <p:nvPr/>
        </p:nvSpPr>
        <p:spPr>
          <a:xfrm>
            <a:off x="3059280" y="6093000"/>
            <a:ext cx="143964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ducid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Cuadro de texto 41"/>
          <p:cNvSpPr/>
          <p:nvPr/>
        </p:nvSpPr>
        <p:spPr>
          <a:xfrm>
            <a:off x="5148360" y="4575240"/>
            <a:ext cx="143964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ducid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Cuadro de texto 42"/>
          <p:cNvSpPr/>
          <p:nvPr/>
        </p:nvSpPr>
        <p:spPr>
          <a:xfrm>
            <a:off x="5219640" y="6230880"/>
            <a:ext cx="122400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xidad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Autoforma 63"/>
          <p:cNvSpPr/>
          <p:nvPr/>
        </p:nvSpPr>
        <p:spPr>
          <a:xfrm>
            <a:off x="2195640" y="4869000"/>
            <a:ext cx="503280" cy="1152360"/>
          </a:xfrm>
          <a:custGeom>
            <a:avLst/>
            <a:gdLst>
              <a:gd name="textAreaLeft" fmla="*/ 67320 w 503280"/>
              <a:gd name="textAreaRight" fmla="*/ 435960 w 50328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5c540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9" name="Autoforma 64"/>
          <p:cNvSpPr/>
          <p:nvPr/>
        </p:nvSpPr>
        <p:spPr>
          <a:xfrm>
            <a:off x="2700360" y="4797360"/>
            <a:ext cx="431640" cy="1584360"/>
          </a:xfrm>
          <a:custGeom>
            <a:avLst/>
            <a:gdLst>
              <a:gd name="textAreaLeft" fmla="*/ 57600 w 431640"/>
              <a:gd name="textAreaRight" fmla="*/ 374040 w 431640"/>
              <a:gd name="textAreaTop" fmla="*/ 311760 h 1584360"/>
              <a:gd name="textAreaBottom" fmla="*/ 111384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08" stAng="-5400000" swAng="-5400000"/>
                <a:lnTo>
                  <a:pt x="0" y="10932"/>
                </a:lnTo>
                <a:arcTo wR="21600" hR="8508" stAng="10800000" swAng="-2885337"/>
                <a:lnTo>
                  <a:pt x="14400" y="21113"/>
                </a:lnTo>
                <a:lnTo>
                  <a:pt x="21600" y="18228"/>
                </a:lnTo>
                <a:lnTo>
                  <a:pt x="14400" y="14369"/>
                </a:lnTo>
                <a:lnTo>
                  <a:pt x="14400" y="16529"/>
                </a:lnTo>
                <a:arcTo wR="21600" hR="8508" stAng="7914663" swAng="2690662"/>
                <a:lnTo>
                  <a:pt x="220" y="9720"/>
                </a:lnTo>
                <a:arcTo wR="21600" hR="8508" stAng="-10605325" swAng="5205325"/>
                <a:close/>
              </a:path>
              <a:path fill="darkenLess" w="21600" h="21600">
                <a:moveTo>
                  <a:pt x="21600" y="0"/>
                </a:moveTo>
                <a:arcTo wR="21600" hR="8508" stAng="-5400000" swAng="-5400000"/>
                <a:lnTo>
                  <a:pt x="0" y="8508"/>
                </a:lnTo>
                <a:arcTo wR="21600" hR="8508" stAng="10800000" swAng="-194675"/>
                <a:lnTo>
                  <a:pt x="220" y="9720"/>
                </a:lnTo>
                <a:arcTo wR="21600" hR="8508" stAng="-10605325" swAng="5205325"/>
                <a:close/>
              </a:path>
            </a:pathLst>
          </a:custGeom>
          <a:solidFill>
            <a:srgbClr val="5c540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60" name="Grupo 67"/>
          <p:cNvGrpSpPr/>
          <p:nvPr/>
        </p:nvGrpSpPr>
        <p:grpSpPr>
          <a:xfrm>
            <a:off x="4356000" y="4581360"/>
            <a:ext cx="792360" cy="1656000"/>
            <a:chOff x="4356000" y="4581360"/>
            <a:chExt cx="792360" cy="1656000"/>
          </a:xfrm>
        </p:grpSpPr>
        <p:sp>
          <p:nvSpPr>
            <p:cNvPr id="561" name="Autoforma 65"/>
            <p:cNvSpPr/>
            <p:nvPr/>
          </p:nvSpPr>
          <p:spPr>
            <a:xfrm rot="16200000">
              <a:off x="3744720" y="5192640"/>
              <a:ext cx="1656000" cy="433440"/>
            </a:xfrm>
            <a:custGeom>
              <a:avLst/>
              <a:gdLst>
                <a:gd name="textAreaLeft" fmla="*/ 321840 w 1656000"/>
                <a:gd name="textAreaRight" fmla="*/ 1168560 w 1656000"/>
                <a:gd name="textAreaTop" fmla="*/ 57960 h 433440"/>
                <a:gd name="textAreaBottom" fmla="*/ 37548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396" hR="21600" stAng="10800000" swAng="-5400000"/>
                  <a:lnTo>
                    <a:pt x="11045" y="21600"/>
                  </a:lnTo>
                  <a:arcTo wR="8396" hR="21600" stAng="5400000" swAng="-2006064"/>
                  <a:lnTo>
                    <a:pt x="20439" y="10958"/>
                  </a:lnTo>
                  <a:lnTo>
                    <a:pt x="18116" y="0"/>
                  </a:lnTo>
                  <a:lnTo>
                    <a:pt x="13470" y="10958"/>
                  </a:lnTo>
                  <a:lnTo>
                    <a:pt x="15630" y="10958"/>
                  </a:lnTo>
                  <a:arcTo wR="8396" hR="21600" stAng="3393936" swAng="1792864"/>
                  <a:lnTo>
                    <a:pt x="9720" y="21330"/>
                  </a:lnTo>
                  <a:arcTo wR="8396" hR="21600" stAng="5613200" swAng="5186800"/>
                  <a:close/>
                </a:path>
                <a:path fill="darkenLess" w="21600" h="21600">
                  <a:moveTo>
                    <a:pt x="0" y="0"/>
                  </a:moveTo>
                  <a:arcTo wR="8396" hR="21600" stAng="10800000" swAng="-5400000"/>
                  <a:lnTo>
                    <a:pt x="11045" y="21600"/>
                  </a:lnTo>
                  <a:arcTo wR="8396" hR="21600" stAng="5400000" swAng="213200"/>
                  <a:lnTo>
                    <a:pt x="9720" y="21330"/>
                  </a:lnTo>
                  <a:arcTo wR="8396" hR="21600" stAng="5613200" swAng="5186800"/>
                  <a:close/>
                </a:path>
              </a:pathLst>
            </a:custGeom>
            <a:solidFill>
              <a:srgbClr val="5c540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62" name="Autoforma 66"/>
            <p:cNvSpPr/>
            <p:nvPr/>
          </p:nvSpPr>
          <p:spPr>
            <a:xfrm rot="16200000">
              <a:off x="4176000" y="5264640"/>
              <a:ext cx="1584360" cy="360360"/>
            </a:xfrm>
            <a:custGeom>
              <a:avLst/>
              <a:gdLst>
                <a:gd name="textAreaLeft" fmla="*/ 306360 w 1584360"/>
                <a:gd name="textAreaRight" fmla="*/ 1096920 w 158436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55" hR="21600" stAng="10800000" swAng="5400000"/>
                  <a:lnTo>
                    <a:pt x="10778" y="0"/>
                  </a:lnTo>
                  <a:arcTo wR="8355" hR="21600" stAng="-5400000" swAng="2854195"/>
                  <a:lnTo>
                    <a:pt x="21122" y="14400"/>
                  </a:lnTo>
                  <a:lnTo>
                    <a:pt x="17921" y="21600"/>
                  </a:lnTo>
                  <a:lnTo>
                    <a:pt x="13763" y="14400"/>
                  </a:lnTo>
                  <a:lnTo>
                    <a:pt x="16231" y="14400"/>
                  </a:lnTo>
                  <a:arcTo wR="8355" hR="21600" stAng="-2545805" swAng="-2659528"/>
                  <a:lnTo>
                    <a:pt x="9566" y="228"/>
                  </a:lnTo>
                  <a:arcTo wR="8355" hR="21600" stAng="-5594668" swAng="-5205332"/>
                  <a:close/>
                </a:path>
                <a:path fill="darkenLess" w="21600" h="21600">
                  <a:moveTo>
                    <a:pt x="0" y="21600"/>
                  </a:moveTo>
                  <a:arcTo wR="8355" hR="21600" stAng="10800000" swAng="5400000"/>
                  <a:lnTo>
                    <a:pt x="8355" y="0"/>
                  </a:lnTo>
                  <a:arcTo wR="8355" hR="21600" stAng="-5400000" swAng="194668"/>
                  <a:lnTo>
                    <a:pt x="9566" y="228"/>
                  </a:lnTo>
                  <a:arcTo wR="8355" hR="21600" stAng="-5594668" swAng="-5205332"/>
                  <a:close/>
                </a:path>
              </a:pathLst>
            </a:custGeom>
            <a:solidFill>
              <a:srgbClr val="5c540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63" name="Autoforma 69"/>
          <p:cNvSpPr/>
          <p:nvPr/>
        </p:nvSpPr>
        <p:spPr>
          <a:xfrm rot="5135400">
            <a:off x="6192360" y="5408640"/>
            <a:ext cx="1656000" cy="433440"/>
          </a:xfrm>
          <a:custGeom>
            <a:avLst/>
            <a:gdLst>
              <a:gd name="textAreaLeft" fmla="*/ 321840 w 1656000"/>
              <a:gd name="textAreaRight" fmla="*/ 1168560 w 165600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96" hR="21600" stAng="10800000" swAng="-5400000"/>
                <a:lnTo>
                  <a:pt x="11045" y="21600"/>
                </a:lnTo>
                <a:arcTo wR="8396" hR="21600" stAng="5400000" swAng="-2006064"/>
                <a:lnTo>
                  <a:pt x="20439" y="10958"/>
                </a:lnTo>
                <a:lnTo>
                  <a:pt x="18116" y="0"/>
                </a:lnTo>
                <a:lnTo>
                  <a:pt x="13470" y="10958"/>
                </a:lnTo>
                <a:lnTo>
                  <a:pt x="15630" y="10958"/>
                </a:lnTo>
                <a:arcTo wR="8396" hR="21600" stAng="3393936" swAng="1792864"/>
                <a:lnTo>
                  <a:pt x="9720" y="21330"/>
                </a:lnTo>
                <a:arcTo wR="8396" hR="21600" stAng="5613200" swAng="5186800"/>
                <a:close/>
              </a:path>
              <a:path fill="darkenLess" w="21600" h="21600">
                <a:moveTo>
                  <a:pt x="0" y="0"/>
                </a:moveTo>
                <a:arcTo wR="8396" hR="21600" stAng="10800000" swAng="-5400000"/>
                <a:lnTo>
                  <a:pt x="11045" y="21600"/>
                </a:lnTo>
                <a:arcTo wR="8396" hR="21600" stAng="5400000" swAng="213200"/>
                <a:lnTo>
                  <a:pt x="9720" y="21330"/>
                </a:lnTo>
                <a:arcTo wR="8396" hR="21600" stAng="5613200" swAng="5186800"/>
                <a:close/>
              </a:path>
            </a:pathLst>
          </a:custGeom>
          <a:solidFill>
            <a:srgbClr val="5c540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Autoforma 70"/>
          <p:cNvSpPr/>
          <p:nvPr/>
        </p:nvSpPr>
        <p:spPr>
          <a:xfrm rot="5271600">
            <a:off x="5830920" y="5409360"/>
            <a:ext cx="1584360" cy="360360"/>
          </a:xfrm>
          <a:custGeom>
            <a:avLst/>
            <a:gdLst>
              <a:gd name="textAreaLeft" fmla="*/ 306360 w 1584360"/>
              <a:gd name="textAreaRight" fmla="*/ 1096920 w 1584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55" hR="21600" stAng="10800000" swAng="5400000"/>
                <a:lnTo>
                  <a:pt x="10778" y="0"/>
                </a:lnTo>
                <a:arcTo wR="8355" hR="21600" stAng="-5400000" swAng="2854195"/>
                <a:lnTo>
                  <a:pt x="21122" y="14400"/>
                </a:lnTo>
                <a:lnTo>
                  <a:pt x="17921" y="21600"/>
                </a:lnTo>
                <a:lnTo>
                  <a:pt x="13763" y="14400"/>
                </a:lnTo>
                <a:lnTo>
                  <a:pt x="16231" y="14400"/>
                </a:lnTo>
                <a:arcTo wR="8355" hR="21600" stAng="-2545805" swAng="-2659528"/>
                <a:lnTo>
                  <a:pt x="9566" y="228"/>
                </a:lnTo>
                <a:arcTo wR="8355" hR="21600" stAng="-5594668" swAng="-5205332"/>
                <a:close/>
              </a:path>
              <a:path fill="darkenLess" w="21600" h="21600">
                <a:moveTo>
                  <a:pt x="0" y="21600"/>
                </a:moveTo>
                <a:arcTo wR="8355" hR="21600" stAng="10800000" swAng="5400000"/>
                <a:lnTo>
                  <a:pt x="8355" y="0"/>
                </a:lnTo>
                <a:arcTo wR="8355" hR="21600" stAng="-5400000" swAng="194668"/>
                <a:lnTo>
                  <a:pt x="9566" y="228"/>
                </a:lnTo>
                <a:arcTo wR="8355" hR="21600" stAng="-5594668" swAng="-5205332"/>
                <a:close/>
              </a:path>
            </a:pathLst>
          </a:custGeom>
          <a:solidFill>
            <a:srgbClr val="5c540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Autoforma 71"/>
          <p:cNvSpPr/>
          <p:nvPr/>
        </p:nvSpPr>
        <p:spPr>
          <a:xfrm>
            <a:off x="6804000" y="5300640"/>
            <a:ext cx="432000" cy="433440"/>
          </a:xfrm>
          <a:custGeom>
            <a:avLst/>
            <a:gdLst>
              <a:gd name="textAreaLeft" fmla="*/ 57600 w 432000"/>
              <a:gd name="textAreaRight" fmla="*/ 374400 w 432000"/>
              <a:gd name="textAreaTop" fmla="*/ 75600 h 433440"/>
              <a:gd name="textAreaBottom" fmla="*/ 31428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c540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6" name="1 CuadroTexto"/>
          <p:cNvSpPr/>
          <p:nvPr/>
        </p:nvSpPr>
        <p:spPr>
          <a:xfrm>
            <a:off x="192240" y="3252960"/>
            <a:ext cx="870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La hidroxilación de sustancias extrañas, aumenta su polaridad y solubilidad en agua </a:t>
            </a:r>
            <a:r>
              <a:rPr b="1" lang="es-MX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 facilita su eliminación </a:t>
            </a:r>
            <a:r>
              <a:rPr b="1" lang="es-MX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 anula su toxicidad </a:t>
            </a:r>
            <a:r>
              <a:rPr b="1" lang="es-MX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 aumenta su metabolismo </a:t>
            </a:r>
            <a:r>
              <a:rPr b="1" lang="es-MX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 son excretada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1 Rectángulo"/>
          <p:cNvSpPr/>
          <p:nvPr/>
        </p:nvSpPr>
        <p:spPr>
          <a:xfrm>
            <a:off x="826920" y="1989000"/>
            <a:ext cx="649440" cy="56844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5257800" cy="4608720"/>
          </a:xfrm>
          <a:prstGeom prst="rect">
            <a:avLst/>
          </a:prstGeom>
          <a:ln w="0">
            <a:noFill/>
          </a:ln>
        </p:spPr>
      </p:pic>
      <p:sp>
        <p:nvSpPr>
          <p:cNvPr id="569" name="5 CuadroTexto"/>
          <p:cNvSpPr/>
          <p:nvPr/>
        </p:nvSpPr>
        <p:spPr>
          <a:xfrm>
            <a:off x="6948360" y="692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0" name="6 CuadroTexto"/>
          <p:cNvSpPr/>
          <p:nvPr/>
        </p:nvSpPr>
        <p:spPr>
          <a:xfrm>
            <a:off x="5580000" y="203040"/>
            <a:ext cx="3456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Los sistemas de Cit p450 participan en reacciones de oxigenación, desulfuración, desaminación </a:t>
            </a:r>
            <a:r>
              <a:rPr b="1" lang="es-MX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 activas en hígado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Son enzimas inducibles, entre los inductores </a:t>
            </a:r>
            <a:r>
              <a:rPr b="1" lang="es-MX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 fármacos, alimentos asados al carbón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Pueden ser inhibidas: consumo simultáneo de jugos cítricos con medicamento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1" name="7 Rectángulo"/>
          <p:cNvSpPr/>
          <p:nvPr/>
        </p:nvSpPr>
        <p:spPr>
          <a:xfrm>
            <a:off x="395280" y="515772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Alcohol: Por cortos períodos inhibe el metabolismo de medicamentos </a:t>
            </a:r>
            <a:r>
              <a:rPr b="1" lang="es-A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mas toxicidad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Por períodos largos: aumenta la metabolización </a:t>
            </a:r>
            <a:r>
              <a:rPr b="1" lang="es-A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reduce el efecto terapéutico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Imagen 2" descr="C:\Users\Fanny\Documents\Quimica Biologica I\1-Imagenes Lehninger\TRaducidas\cadena respiratoria.jpg"/>
          <p:cNvPicPr/>
          <p:nvPr/>
        </p:nvPicPr>
        <p:blipFill>
          <a:blip r:embed="rId1"/>
          <a:stretch/>
        </p:blipFill>
        <p:spPr>
          <a:xfrm>
            <a:off x="468360" y="35100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1 CuadroTexto"/>
          <p:cNvSpPr/>
          <p:nvPr/>
        </p:nvSpPr>
        <p:spPr>
          <a:xfrm>
            <a:off x="395280" y="333360"/>
            <a:ext cx="8353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5698"/>
                </a:solidFill>
                <a:uFillTx/>
                <a:latin typeface="Comic Sans MS"/>
              </a:rPr>
              <a:t>METABOLISMO DE XENOBIÓTICO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XPOSICIÓN A SUSTANCIAS QUÍMICAS EXTRAÑAS </a:t>
            </a:r>
            <a:r>
              <a:rPr b="1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EDICAMENTO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ADITIVOS EN ALIMENTOS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ONTAMINANTES AMBIENTAL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5698"/>
                </a:solidFill>
                <a:uFillTx/>
                <a:latin typeface="Comic Sans MS"/>
              </a:rPr>
              <a:t>IMPORTANCIA BIOMÉDIC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OMPRENSIÓN RACIONAL DE LA FARMACOLOGÍA.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TOXICOLOGÍ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INVESTIGACIÓN DEL CÁNC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L HÍGADO ES EL PRINCIPAL ÓRGANO DONDE SE LLEVA A CABO LA METABOLIZACIÓN (DESTOXIFICACIÓN) DE LOS XENOBIÓTICO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ángulo 4"/>
          <p:cNvSpPr/>
          <p:nvPr/>
        </p:nvSpPr>
        <p:spPr>
          <a:xfrm>
            <a:off x="395280" y="189000"/>
            <a:ext cx="8229600" cy="1143000"/>
          </a:xfrm>
          <a:prstGeom prst="rect">
            <a:avLst/>
          </a:prstGeom>
          <a:solidFill>
            <a:srgbClr val="fbfda1"/>
          </a:solidFill>
          <a:ln w="93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  <a:ea typeface="Arial"/>
              </a:rPr>
              <a:t>METABOLISMO DE XENOBIOTICO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4" name="Cuadro de texto 5"/>
          <p:cNvSpPr/>
          <p:nvPr/>
        </p:nvSpPr>
        <p:spPr>
          <a:xfrm>
            <a:off x="611280" y="17715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ASE 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5" name="Cuadro de texto 6"/>
          <p:cNvSpPr/>
          <p:nvPr/>
        </p:nvSpPr>
        <p:spPr>
          <a:xfrm>
            <a:off x="468360" y="3068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ASE I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Línea 7"/>
          <p:cNvSpPr/>
          <p:nvPr/>
        </p:nvSpPr>
        <p:spPr>
          <a:xfrm>
            <a:off x="1979640" y="2060640"/>
            <a:ext cx="1655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7" name="Línea 8"/>
          <p:cNvSpPr/>
          <p:nvPr/>
        </p:nvSpPr>
        <p:spPr>
          <a:xfrm>
            <a:off x="2050920" y="3355920"/>
            <a:ext cx="1656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8" name="Cuadro de texto 9"/>
          <p:cNvSpPr/>
          <p:nvPr/>
        </p:nvSpPr>
        <p:spPr>
          <a:xfrm>
            <a:off x="3924360" y="162864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Reacciones de Hidroxilació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9" name="Cuadro de texto 10"/>
          <p:cNvSpPr/>
          <p:nvPr/>
        </p:nvSpPr>
        <p:spPr>
          <a:xfrm>
            <a:off x="4067280" y="2852640"/>
            <a:ext cx="2881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Reacciones de Conjugació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etilacio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0" name="Elipse 11"/>
          <p:cNvSpPr/>
          <p:nvPr/>
        </p:nvSpPr>
        <p:spPr>
          <a:xfrm>
            <a:off x="6516720" y="1700280"/>
            <a:ext cx="1800360" cy="1152360"/>
          </a:xfrm>
          <a:prstGeom prst="ellipse">
            <a:avLst/>
          </a:prstGeom>
          <a:solidFill>
            <a:srgbClr val="fbfd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itocromo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-450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81" name="Grupo 12"/>
          <p:cNvGrpSpPr/>
          <p:nvPr/>
        </p:nvGrpSpPr>
        <p:grpSpPr>
          <a:xfrm>
            <a:off x="468360" y="4148280"/>
            <a:ext cx="8155080" cy="1728720"/>
            <a:chOff x="468360" y="4148280"/>
            <a:chExt cx="8155080" cy="1728720"/>
          </a:xfrm>
        </p:grpSpPr>
        <p:sp>
          <p:nvSpPr>
            <p:cNvPr id="582" name="Elipse 13"/>
            <p:cNvSpPr/>
            <p:nvPr/>
          </p:nvSpPr>
          <p:spPr>
            <a:xfrm>
              <a:off x="468360" y="4148280"/>
              <a:ext cx="4392720" cy="14414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UMENTO DE SOLUBILIDAD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83" name="Autoforma 14"/>
            <p:cNvSpPr/>
            <p:nvPr/>
          </p:nvSpPr>
          <p:spPr>
            <a:xfrm>
              <a:off x="4932360" y="4580280"/>
              <a:ext cx="863640" cy="288720"/>
            </a:xfrm>
            <a:custGeom>
              <a:avLst/>
              <a:gdLst>
                <a:gd name="textAreaLeft" fmla="*/ 151200 w 863640"/>
                <a:gd name="textAreaRight" fmla="*/ 626400 w 863640"/>
                <a:gd name="textAreaTop" fmla="*/ 38520 h 288720"/>
                <a:gd name="textAreaBottom" fmla="*/ 25020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84" name="Elipse 15"/>
            <p:cNvSpPr/>
            <p:nvPr/>
          </p:nvSpPr>
          <p:spPr>
            <a:xfrm>
              <a:off x="6103800" y="4148280"/>
              <a:ext cx="2519640" cy="17287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EXCRECION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85" name="Cuadro de texto 16"/>
          <p:cNvSpPr/>
          <p:nvPr/>
        </p:nvSpPr>
        <p:spPr>
          <a:xfrm>
            <a:off x="514440" y="587844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b8f2"/>
                </a:solidFill>
                <a:latin typeface="Comic Sans MS"/>
                <a:ea typeface="Arial"/>
              </a:rPr>
              <a:t>Hígado: Membrana del retículo endoplásmico (Microsoma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6" name="1 Abrir llave"/>
          <p:cNvSpPr/>
          <p:nvPr/>
        </p:nvSpPr>
        <p:spPr>
          <a:xfrm>
            <a:off x="3706920" y="1628640"/>
            <a:ext cx="217440" cy="822600"/>
          </a:xfrm>
          <a:custGeom>
            <a:avLst/>
            <a:gdLst>
              <a:gd name="textAreaLeft" fmla="*/ 138960 w 217440"/>
              <a:gd name="textAreaRight" fmla="*/ 217800 w 217440"/>
              <a:gd name="textAreaTop" fmla="*/ 5400 h 822600"/>
              <a:gd name="textAreaBottom" fmla="*/ 817200 h 82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8"/>
                  <a:pt x="10800" y="476"/>
                </a:cubicBezTo>
                <a:lnTo>
                  <a:pt x="10800" y="10324"/>
                </a:lnTo>
                <a:cubicBezTo>
                  <a:pt x="10800" y="10562"/>
                  <a:pt x="5400" y="10800"/>
                  <a:pt x="0" y="10800"/>
                </a:cubicBezTo>
                <a:cubicBezTo>
                  <a:pt x="5400" y="10800"/>
                  <a:pt x="10800" y="11038"/>
                  <a:pt x="10800" y="11276"/>
                </a:cubicBezTo>
                <a:lnTo>
                  <a:pt x="10800" y="21124"/>
                </a:lnTo>
                <a:cubicBezTo>
                  <a:pt x="10800" y="2136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7" name="2 Abrir llave"/>
          <p:cNvSpPr/>
          <p:nvPr/>
        </p:nvSpPr>
        <p:spPr>
          <a:xfrm>
            <a:off x="3924360" y="2852640"/>
            <a:ext cx="287280" cy="137016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370160"/>
              <a:gd name="textAreaBottom" fmla="*/ 1362960 h 137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"/>
                  <a:pt x="10800" y="378"/>
                </a:cubicBezTo>
                <a:lnTo>
                  <a:pt x="10800" y="10422"/>
                </a:lnTo>
                <a:cubicBezTo>
                  <a:pt x="10800" y="10611"/>
                  <a:pt x="5400" y="10800"/>
                  <a:pt x="0" y="10800"/>
                </a:cubicBezTo>
                <a:cubicBezTo>
                  <a:pt x="5400" y="10800"/>
                  <a:pt x="10800" y="10989"/>
                  <a:pt x="10800" y="11178"/>
                </a:cubicBezTo>
                <a:lnTo>
                  <a:pt x="10800" y="21222"/>
                </a:lnTo>
                <a:cubicBezTo>
                  <a:pt x="10800" y="2141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ángulo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9" name="Rectángulo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Rectángulo 6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FASE I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91" name="Grupo 7"/>
          <p:cNvGrpSpPr/>
          <p:nvPr/>
        </p:nvGrpSpPr>
        <p:grpSpPr>
          <a:xfrm>
            <a:off x="468360" y="2911320"/>
            <a:ext cx="8497800" cy="1015920"/>
            <a:chOff x="468360" y="2911320"/>
            <a:chExt cx="8497800" cy="1015920"/>
          </a:xfrm>
        </p:grpSpPr>
        <p:sp>
          <p:nvSpPr>
            <p:cNvPr id="592" name="Cuadro de texto 8"/>
            <p:cNvSpPr/>
            <p:nvPr/>
          </p:nvSpPr>
          <p:spPr>
            <a:xfrm>
              <a:off x="468360" y="2911320"/>
              <a:ext cx="8497800" cy="101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ENOBIOTICO  (inactivo)     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ENOBIOTICO  (activo)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fármaco (inactivo)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ármaco (activo)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93" name="Línea 9"/>
            <p:cNvSpPr/>
            <p:nvPr/>
          </p:nvSpPr>
          <p:spPr>
            <a:xfrm>
              <a:off x="4226040" y="3152880"/>
              <a:ext cx="86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94" name="Línea 10"/>
            <p:cNvSpPr/>
            <p:nvPr/>
          </p:nvSpPr>
          <p:spPr>
            <a:xfrm>
              <a:off x="4151520" y="3703680"/>
              <a:ext cx="86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595" name="Grupo 11"/>
          <p:cNvGrpSpPr/>
          <p:nvPr/>
        </p:nvGrpSpPr>
        <p:grpSpPr>
          <a:xfrm>
            <a:off x="611280" y="4292640"/>
            <a:ext cx="8208720" cy="955080"/>
            <a:chOff x="611280" y="4292640"/>
            <a:chExt cx="8208720" cy="955080"/>
          </a:xfrm>
        </p:grpSpPr>
        <p:sp>
          <p:nvSpPr>
            <p:cNvPr id="596" name="Cuadro de texto 12"/>
            <p:cNvSpPr/>
            <p:nvPr/>
          </p:nvSpPr>
          <p:spPr>
            <a:xfrm>
              <a:off x="611280" y="4292640"/>
              <a:ext cx="8208720" cy="955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ENOBIOTICO  (activo)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ENOBIOTICO  (inactivo)</a:t>
              </a:r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enobiótico  (menos activo)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97" name="Línea 13"/>
            <p:cNvSpPr/>
            <p:nvPr/>
          </p:nvSpPr>
          <p:spPr>
            <a:xfrm>
              <a:off x="3887640" y="4508280"/>
              <a:ext cx="86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98" name="Cuadro de texto 14"/>
          <p:cNvSpPr/>
          <p:nvPr/>
        </p:nvSpPr>
        <p:spPr>
          <a:xfrm>
            <a:off x="1332000" y="5508720"/>
            <a:ext cx="6408720" cy="1015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a síntesis de Citocromo P-450 es INDUCIBL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quiere de NADP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9" name="1 CuadroTexto"/>
          <p:cNvSpPr/>
          <p:nvPr/>
        </p:nvSpPr>
        <p:spPr>
          <a:xfrm>
            <a:off x="250920" y="15890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Los xenobióticos muy hidrófobos persistirían en tejido adiposo si no hubiera conversión a formas más polares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ángulo 4"/>
          <p:cNvSpPr/>
          <p:nvPr/>
        </p:nvSpPr>
        <p:spPr>
          <a:xfrm>
            <a:off x="528480" y="115920"/>
            <a:ext cx="8229600" cy="9777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FASE II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1" name="Cuadro de texto 5"/>
          <p:cNvSpPr/>
          <p:nvPr/>
        </p:nvSpPr>
        <p:spPr>
          <a:xfrm>
            <a:off x="755640" y="2060640"/>
            <a:ext cx="64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Elipse 6"/>
          <p:cNvSpPr/>
          <p:nvPr/>
        </p:nvSpPr>
        <p:spPr>
          <a:xfrm>
            <a:off x="900000" y="2492280"/>
            <a:ext cx="3095640" cy="1584360"/>
          </a:xfrm>
          <a:prstGeom prst="ellipse">
            <a:avLst/>
          </a:prstGeom>
          <a:solidFill>
            <a:srgbClr val="fdfee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ONJUGACIÓ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3" name="Autoforma 7"/>
          <p:cNvSpPr/>
          <p:nvPr/>
        </p:nvSpPr>
        <p:spPr>
          <a:xfrm>
            <a:off x="4643280" y="1989000"/>
            <a:ext cx="433440" cy="2232000"/>
          </a:xfrm>
          <a:custGeom>
            <a:avLst/>
            <a:gdLst>
              <a:gd name="textAreaLeft" fmla="*/ 276840 w 433440"/>
              <a:gd name="textAreaRight" fmla="*/ 433800 w 43344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4" name="Cuadro de texto 8"/>
          <p:cNvSpPr/>
          <p:nvPr/>
        </p:nvSpPr>
        <p:spPr>
          <a:xfrm>
            <a:off x="5292720" y="2060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Glucuronidació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Cuadro de texto 9"/>
          <p:cNvSpPr/>
          <p:nvPr/>
        </p:nvSpPr>
        <p:spPr>
          <a:xfrm>
            <a:off x="5364000" y="2781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ulfatació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6" name="Cuadro de texto 10"/>
          <p:cNvSpPr/>
          <p:nvPr/>
        </p:nvSpPr>
        <p:spPr>
          <a:xfrm>
            <a:off x="5364000" y="357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cetilació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7" name="Elipse 11"/>
          <p:cNvSpPr/>
          <p:nvPr/>
        </p:nvSpPr>
        <p:spPr>
          <a:xfrm>
            <a:off x="1403280" y="5300640"/>
            <a:ext cx="2808360" cy="1081080"/>
          </a:xfrm>
          <a:prstGeom prst="ellipse">
            <a:avLst/>
          </a:prstGeom>
          <a:solidFill>
            <a:srgbClr val="fdfee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METILACIÓ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8" name="Línea 12"/>
          <p:cNvSpPr/>
          <p:nvPr/>
        </p:nvSpPr>
        <p:spPr>
          <a:xfrm>
            <a:off x="4356000" y="5805360"/>
            <a:ext cx="1440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9" name="Cuadro de texto 13"/>
          <p:cNvSpPr/>
          <p:nvPr/>
        </p:nvSpPr>
        <p:spPr>
          <a:xfrm>
            <a:off x="5940360" y="537372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-Adenosil metionin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1 CuadroTexto"/>
          <p:cNvSpPr/>
          <p:nvPr/>
        </p:nvSpPr>
        <p:spPr>
          <a:xfrm>
            <a:off x="0" y="1281240"/>
            <a:ext cx="909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b8f2"/>
                </a:solidFill>
                <a:latin typeface="Comic Sans MS"/>
              </a:rPr>
              <a:t>LOS XENOBIÓTICOS SE HACEN MÁS SOLUBLES Y ASÍ SE EXCRETAN POR ORINA O BIL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  <a:ea typeface="Arial"/>
              </a:rPr>
              <a:t>REACCIONES DE CONJUGAC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2" name="Elipse 5"/>
          <p:cNvSpPr/>
          <p:nvPr/>
        </p:nvSpPr>
        <p:spPr>
          <a:xfrm>
            <a:off x="5861160" y="3630600"/>
            <a:ext cx="2520720" cy="865080"/>
          </a:xfrm>
          <a:prstGeom prst="ellipse">
            <a:avLst/>
          </a:prstGeom>
          <a:solidFill>
            <a:srgbClr val="fdfee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lucuroni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ransferas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3" name="Cuadro de texto 6"/>
          <p:cNvSpPr/>
          <p:nvPr/>
        </p:nvSpPr>
        <p:spPr>
          <a:xfrm>
            <a:off x="523800" y="3578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R: Anilina, ácido benzoico, fenoles, meprobromato, esteroid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4" name="Cuadro de texto 7"/>
          <p:cNvSpPr/>
          <p:nvPr/>
        </p:nvSpPr>
        <p:spPr>
          <a:xfrm>
            <a:off x="511200" y="630072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R: Alcoholes y fenol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5" name="Elipse 8"/>
          <p:cNvSpPr/>
          <p:nvPr/>
        </p:nvSpPr>
        <p:spPr>
          <a:xfrm>
            <a:off x="6084720" y="5950080"/>
            <a:ext cx="2519640" cy="865080"/>
          </a:xfrm>
          <a:prstGeom prst="ellipse">
            <a:avLst/>
          </a:prstGeom>
          <a:solidFill>
            <a:srgbClr val="fdfee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ulfat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ransferas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6" name="Cuadro de texto 9"/>
          <p:cNvSpPr/>
          <p:nvPr/>
        </p:nvSpPr>
        <p:spPr>
          <a:xfrm>
            <a:off x="324000" y="1700280"/>
            <a:ext cx="67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GLUCURONIDACION (más frecuent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Cuadro de texto 10"/>
          <p:cNvSpPr/>
          <p:nvPr/>
        </p:nvSpPr>
        <p:spPr>
          <a:xfrm>
            <a:off x="395280" y="465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SULFATAC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618" name="Grupo 11"/>
          <p:cNvGrpSpPr/>
          <p:nvPr/>
        </p:nvGrpSpPr>
        <p:grpSpPr>
          <a:xfrm>
            <a:off x="511200" y="2421000"/>
            <a:ext cx="8381520" cy="1191240"/>
            <a:chOff x="511200" y="2421000"/>
            <a:chExt cx="8381520" cy="1191240"/>
          </a:xfrm>
        </p:grpSpPr>
        <p:sp>
          <p:nvSpPr>
            <p:cNvPr id="619" name="Cuadro de texto 12"/>
            <p:cNvSpPr/>
            <p:nvPr/>
          </p:nvSpPr>
          <p:spPr>
            <a:xfrm>
              <a:off x="511200" y="2421000"/>
              <a:ext cx="8381520" cy="119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R-OH  + </a:t>
              </a: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Ac. Glucurónico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- UDP                  R-AG  (Radical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        Glucurónico) + UDP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20" name="Línea 13"/>
            <p:cNvSpPr/>
            <p:nvPr/>
          </p:nvSpPr>
          <p:spPr>
            <a:xfrm>
              <a:off x="4702680" y="2708280"/>
              <a:ext cx="939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21" name="Grupo 14"/>
          <p:cNvGrpSpPr/>
          <p:nvPr/>
        </p:nvGrpSpPr>
        <p:grpSpPr>
          <a:xfrm>
            <a:off x="900000" y="5300640"/>
            <a:ext cx="7704360" cy="510120"/>
            <a:chOff x="900000" y="5300640"/>
            <a:chExt cx="7704360" cy="510120"/>
          </a:xfrm>
        </p:grpSpPr>
        <p:sp>
          <p:nvSpPr>
            <p:cNvPr id="622" name="Cuadro de texto 15"/>
            <p:cNvSpPr/>
            <p:nvPr/>
          </p:nvSpPr>
          <p:spPr>
            <a:xfrm>
              <a:off x="900000" y="5300640"/>
              <a:ext cx="7704360" cy="510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R-OH  + </a:t>
              </a: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PAPS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(sulfato activo)                  R-SO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  <a:ea typeface="Arial"/>
                </a:rPr>
                <a:t>4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+ PAP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23" name="Línea 16"/>
            <p:cNvSpPr/>
            <p:nvPr/>
          </p:nvSpPr>
          <p:spPr>
            <a:xfrm>
              <a:off x="4932360" y="5516640"/>
              <a:ext cx="863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24" name="1 CuadroTexto"/>
          <p:cNvSpPr/>
          <p:nvPr/>
        </p:nvSpPr>
        <p:spPr>
          <a:xfrm>
            <a:off x="399960" y="590076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’-fosfato-5’fosfosulfato de adenosin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625" name="3 Conector recto de flecha"/>
          <p:cNvCxnSpPr/>
          <p:nvPr/>
        </p:nvCxnSpPr>
        <p:spPr>
          <a:xfrm>
            <a:off x="2244600" y="5686560"/>
            <a:ext cx="456480" cy="264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Cuadro de texto 4"/>
          <p:cNvSpPr/>
          <p:nvPr/>
        </p:nvSpPr>
        <p:spPr>
          <a:xfrm>
            <a:off x="820800" y="2471760"/>
            <a:ext cx="3405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ETILAC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627" name="Grupo 5"/>
          <p:cNvGrpSpPr/>
          <p:nvPr/>
        </p:nvGrpSpPr>
        <p:grpSpPr>
          <a:xfrm>
            <a:off x="146160" y="3021120"/>
            <a:ext cx="7704000" cy="459720"/>
            <a:chOff x="146160" y="3021120"/>
            <a:chExt cx="7704000" cy="459720"/>
          </a:xfrm>
        </p:grpSpPr>
        <p:sp>
          <p:nvSpPr>
            <p:cNvPr id="628" name="Cuadro de texto 6"/>
            <p:cNvSpPr/>
            <p:nvPr/>
          </p:nvSpPr>
          <p:spPr>
            <a:xfrm>
              <a:off x="146160" y="3021120"/>
              <a:ext cx="7704000" cy="459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R-OH  + Acetil-CoA                         R-Acetil   + CoA-SH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29" name="Línea 7"/>
            <p:cNvSpPr/>
            <p:nvPr/>
          </p:nvSpPr>
          <p:spPr>
            <a:xfrm>
              <a:off x="3059280" y="3255840"/>
              <a:ext cx="1150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30" name="Cuadro de texto 8"/>
          <p:cNvSpPr/>
          <p:nvPr/>
        </p:nvSpPr>
        <p:spPr>
          <a:xfrm>
            <a:off x="220680" y="114480"/>
            <a:ext cx="6512040" cy="76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GACIÓN CON GLUTATIÓ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péptido: glutámico, cisteína y glicin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631" name="Grupo 9"/>
          <p:cNvGrpSpPr/>
          <p:nvPr/>
        </p:nvGrpSpPr>
        <p:grpSpPr>
          <a:xfrm>
            <a:off x="252360" y="5148360"/>
            <a:ext cx="8353440" cy="475200"/>
            <a:chOff x="252360" y="5148360"/>
            <a:chExt cx="8353440" cy="475200"/>
          </a:xfrm>
        </p:grpSpPr>
        <p:sp>
          <p:nvSpPr>
            <p:cNvPr id="632" name="Cuadro de texto 10"/>
            <p:cNvSpPr/>
            <p:nvPr/>
          </p:nvSpPr>
          <p:spPr>
            <a:xfrm>
              <a:off x="252360" y="5148360"/>
              <a:ext cx="8353440" cy="475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X   +  S-Adenosilmetionina                 XCH</a:t>
              </a:r>
              <a:r>
                <a:rPr b="0" lang="es-ES_tradnl" sz="2200" spc="-1" strike="noStrike" baseline="-25000">
                  <a:solidFill>
                    <a:srgbClr val="ffffff"/>
                  </a:solidFill>
                  <a:latin typeface="Times New Roman"/>
                  <a:ea typeface="Arial"/>
                </a:rPr>
                <a:t>3  </a:t>
              </a:r>
              <a:r>
                <a:rPr b="0" lang="es-ES_tradnl" sz="2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+ S-Adenosil homocisteína</a:t>
              </a:r>
              <a:endParaRPr b="0" lang="en-US" sz="2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33" name="Línea 11"/>
            <p:cNvSpPr/>
            <p:nvPr/>
          </p:nvSpPr>
          <p:spPr>
            <a:xfrm>
              <a:off x="3672000" y="5367240"/>
              <a:ext cx="86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34" name="Elipse 12"/>
          <p:cNvSpPr/>
          <p:nvPr/>
        </p:nvSpPr>
        <p:spPr>
          <a:xfrm>
            <a:off x="5375160" y="1305000"/>
            <a:ext cx="3384720" cy="936720"/>
          </a:xfrm>
          <a:prstGeom prst="ellipse">
            <a:avLst/>
          </a:prstGeom>
          <a:solidFill>
            <a:srgbClr val="fdfee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Glutatión- S- transferas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Elipse 13"/>
          <p:cNvSpPr/>
          <p:nvPr/>
        </p:nvSpPr>
        <p:spPr>
          <a:xfrm>
            <a:off x="6383160" y="5589720"/>
            <a:ext cx="2376720" cy="936360"/>
          </a:xfrm>
          <a:prstGeom prst="ellipse">
            <a:avLst/>
          </a:prstGeom>
          <a:solidFill>
            <a:srgbClr val="fdfee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Metil transferas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6" name="1 CuadroTexto"/>
          <p:cNvSpPr/>
          <p:nvPr/>
        </p:nvSpPr>
        <p:spPr>
          <a:xfrm>
            <a:off x="146160" y="1235160"/>
            <a:ext cx="4182840" cy="73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 + GSH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- S- 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637" name="3 Conector recto de flecha"/>
          <p:cNvCxnSpPr/>
          <p:nvPr/>
        </p:nvCxnSpPr>
        <p:spPr>
          <a:xfrm>
            <a:off x="1792080" y="1738080"/>
            <a:ext cx="93564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638" name="Picture 12" descr=""/>
          <p:cNvPicPr/>
          <p:nvPr/>
        </p:nvPicPr>
        <p:blipFill>
          <a:blip r:embed="rId1"/>
          <a:stretch/>
        </p:blipFill>
        <p:spPr>
          <a:xfrm>
            <a:off x="6399360" y="3581280"/>
            <a:ext cx="2541600" cy="94464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3" descr=""/>
          <p:cNvPicPr/>
          <p:nvPr/>
        </p:nvPicPr>
        <p:blipFill>
          <a:blip r:embed="rId2"/>
          <a:stretch/>
        </p:blipFill>
        <p:spPr>
          <a:xfrm>
            <a:off x="338040" y="4203720"/>
            <a:ext cx="47786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1 Rectángulo"/>
          <p:cNvSpPr/>
          <p:nvPr/>
        </p:nvSpPr>
        <p:spPr>
          <a:xfrm>
            <a:off x="2694960" y="333360"/>
            <a:ext cx="3615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OMPLEJO ATP sintas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Cuadro de texto 10"/>
          <p:cNvSpPr/>
          <p:nvPr/>
        </p:nvSpPr>
        <p:spPr>
          <a:xfrm>
            <a:off x="52560" y="1305000"/>
            <a:ext cx="3751200" cy="50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9 subunidades: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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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itios catalítico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o: Proteína integral , canal transmembrana para protones con 3 subunidades: a,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y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sta enzima es la que transforma la energía cinética del ATP en energía químic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l Dr. Boyer (1964) recibió el Premio Nobel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l describir la ATP sintas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3924360" y="1305000"/>
            <a:ext cx="521964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2 Rectángulo"/>
          <p:cNvSpPr/>
          <p:nvPr/>
        </p:nvSpPr>
        <p:spPr>
          <a:xfrm>
            <a:off x="7920" y="189000"/>
            <a:ext cx="91360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a energía del gradiente de protones se utiliza también para el transport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3600360" y="1341360"/>
            <a:ext cx="5543640" cy="48196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02436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1 CuadroTexto"/>
          <p:cNvSpPr/>
          <p:nvPr/>
        </p:nvSpPr>
        <p:spPr>
          <a:xfrm>
            <a:off x="0" y="333360"/>
            <a:ext cx="9144000" cy="56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l control de la fosforilación oxidativa permite a la célula producir solo la cantidad de ATP que se requiere para el mantenimiento de sus actividad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l valor del cociente P/O, representa el número de moles de Pi que se consumen para que se reduzca cada átomo de O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a H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O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l cociente máximo medido para la oxidación de NADH es 2,5 y para FADH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es 1,5, para mayor practicidad se consideran 3 ATP y 2 ATP, respectivament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Control respiratorio por el aceptor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as mitocondrias solo pueden oxidar al NADH y al FADH cuando hay una concentración suficiente de ADP  y Pi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uando todo el ADP se transformó en ATP, disminuye el consumo de oxígeno y aumenta cuando se suministra ADP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752400" y="604800"/>
            <a:ext cx="76392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1 Rectángulo"/>
          <p:cNvSpPr/>
          <p:nvPr/>
        </p:nvSpPr>
        <p:spPr>
          <a:xfrm>
            <a:off x="539640" y="0"/>
            <a:ext cx="792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Rounded MT Bold"/>
              </a:rPr>
              <a:t>Inhibidores de la fosforilació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Rectángulo 3"/>
          <p:cNvSpPr/>
          <p:nvPr/>
        </p:nvSpPr>
        <p:spPr>
          <a:xfrm>
            <a:off x="395280" y="690480"/>
            <a:ext cx="8677440" cy="616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Oligomicina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loquea el flujo de protones a través de 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impidiendo la fosforilació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e inhibe la síntesis de ATP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e acumulan protones y se produce una fuerza inversa deteniéndose el transporte de electron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Arial Rounded MT Bold"/>
                <a:ea typeface="Arial"/>
              </a:rPr>
              <a:t>Desacoplantes</a:t>
            </a:r>
            <a:r>
              <a:rPr b="0" lang="es-MX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Compuestos que impiden la síntesis de ATP, pero no bloquean el flujo de electrones, de esa manera desacoplan  la cadena respiratoria de la fosforilación oxidativ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El 2,3-dinitrofenol (DNF) transfiere iones hidrógeno desde el lado externo hacia la matriz y anula el gradiente de protones  creado por la cadena respiratori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cf7"/>
            </a:gs>
            <a:gs pos="100000">
              <a:srgbClr val="5d6d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ángulo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0" name="Rectángulo 4"/>
          <p:cNvSpPr/>
          <p:nvPr/>
        </p:nvSpPr>
        <p:spPr>
          <a:xfrm>
            <a:off x="615960" y="189000"/>
            <a:ext cx="7769160" cy="936360"/>
          </a:xfrm>
          <a:prstGeom prst="rect">
            <a:avLst/>
          </a:prstGeom>
          <a:gradFill rotWithShape="0">
            <a:gsLst>
              <a:gs pos="0">
                <a:srgbClr val="74754b"/>
              </a:gs>
              <a:gs pos="50000">
                <a:srgbClr val="fbfda1"/>
              </a:gs>
              <a:gs pos="100000">
                <a:srgbClr val="74754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acciones del Ciclo Q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1" name="1 CuadroTexto"/>
          <p:cNvSpPr/>
          <p:nvPr/>
        </p:nvSpPr>
        <p:spPr>
          <a:xfrm>
            <a:off x="95400" y="3716280"/>
            <a:ext cx="8808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l resultado de cada ciclo Q es la oxidación de una molécula de CoQH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, la expulsión de 4 protones y la transferencia de 2 e- al Cit </a:t>
            </a:r>
            <a:r>
              <a:rPr b="1" i="1" lang="es-MX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en la superficie externa de la membrana de la mitocondri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2 CuadroTexto"/>
          <p:cNvSpPr/>
          <p:nvPr/>
        </p:nvSpPr>
        <p:spPr>
          <a:xfrm>
            <a:off x="0" y="1700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l ciclo Q adapta el cambio de un transportador de 2 e-, como CoQ, a un transportador de 1 e-, como los Cit y explica la estequiometria de 4 H+ translocados por cada par de e- que pasan al Cit c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5:25:01Z</dcterms:created>
  <dc:creator>Fanny</dc:creator>
  <dc:description/>
  <dc:language>en-US</dc:language>
  <cp:lastModifiedBy>Preferred Customer</cp:lastModifiedBy>
  <dcterms:modified xsi:type="dcterms:W3CDTF">2014-03-19T23:03:53Z</dcterms:modified>
  <cp:revision>83</cp:revision>
  <dc:subject/>
  <dc:title>Presentación de PowerPoint</dc:title>
</cp:coreProperties>
</file>